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explod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CB943-22B1-4D25-B51D-E9DB955FE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D742B-1BFF-4450-B1A3-C92862B528E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9CB8B-8FB3-4C03-93C1-A1FFF78234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A9B26-94BE-4784-BBCA-1F0E78DAA7A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122AE-5357-4D40-BF38-0F8F6456F8F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59080-0BBC-4359-934F-209E989722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A120C-340A-4896-9675-C72922C753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71BBF-C847-4F1A-BF42-198099C977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35DCF-EC4C-487A-B18E-CB220C10EA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7F641-B8A0-46D7-9796-BDB7211243D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649ED-FA5F-4C26-9ACE-9654A31DE7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A6EF8-E50B-486F-805E-56619937F1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888D3-846A-4019-9631-3C597A4245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E04BC-DCEA-4736-8FCD-A42A0E3AFE0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A641B-DE6F-43F2-B7D0-4231C8187D1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D438F-C64D-49CA-8B13-E478009345A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FFB9E-84C7-468D-8A88-39AA99A7A08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8D2B-A9B4-4A5C-ABBA-C93575B208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2B8B0-074E-4B70-8CEC-723FAF77D0F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1D85C-15E6-449D-BFDC-20C815E8DD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3AF8-AED6-44BC-8292-0D76AC585E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EF7ED-E528-47EE-A0BC-79B4CDC882F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115B1-9642-45FD-BE99-B90FCD6CD34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FEE62-F8E2-4308-91EE-1B20E81ABF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354E3-EF41-4AF3-BCF5-C71CC9A112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ABA80-2D87-4E6B-8F62-534178F4AD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8793B-85A0-41F3-811C-141AECDEBF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71EE7-6E94-4B8F-82FD-2E38FE3318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1FF7-328A-4445-B068-E42F62FF96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951E-6AEE-4609-BE4F-347229457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09B6-88B6-462F-BC23-3CBE1CD5F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BC4D-57CB-40BF-BE83-01BAEA3AD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3392-EAA6-4FEF-90C5-B4F30247F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28C6-DFEF-41EE-B9DD-3D6BEE2FA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3DD5-0949-4413-A232-0ED469FB6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0614-784E-49DE-B2D2-368FE697C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14FE-A514-4290-BC11-D87D5279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35F5-72A5-45B7-9E51-F927E1001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D251-A6BD-486B-80B1-7A175F3C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DFBC-D897-4CFE-8E13-7E1DC6B5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D47E-BE92-4754-B067-209134E7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6666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6666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6666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4B5C3-AB1A-40BC-A2E0-9E9D8A538CA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13.xml"/><Relationship Id="rId4" Type="http://schemas.openxmlformats.org/officeDocument/2006/relationships/slide" Target="slide18.xml"/><Relationship Id="rId5" Type="http://schemas.openxmlformats.org/officeDocument/2006/relationships/slide" Target="slide23.xml"/><Relationship Id="rId6" Type="http://schemas.openxmlformats.org/officeDocument/2006/relationships/slide" Target="slide4.xml"/><Relationship Id="rId7" Type="http://schemas.openxmlformats.org/officeDocument/2006/relationships/slide" Target="slide9.xml"/><Relationship Id="rId8" Type="http://schemas.openxmlformats.org/officeDocument/2006/relationships/slide" Target="slide14.xml"/><Relationship Id="rId9" Type="http://schemas.openxmlformats.org/officeDocument/2006/relationships/slide" Target="slide19.xml"/><Relationship Id="rId10" Type="http://schemas.openxmlformats.org/officeDocument/2006/relationships/slide" Target="slide24.xml"/><Relationship Id="rId11" Type="http://schemas.openxmlformats.org/officeDocument/2006/relationships/image" Target="../media/image1.gif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2057400" y="152280"/>
            <a:ext cx="42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6699"/>
                </a:solidFill>
                <a:latin typeface="Times New Roman"/>
              </a:rPr>
              <a:t>Zoo Jeopard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666699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666699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666699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666699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666699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666699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666699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666699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666699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666699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666699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666699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666699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666699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666699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" name="Picture 167" descr="C:\Users\Noel\Desktop\panda-ani.gif"/>
          <p:cNvPicPr/>
          <p:nvPr/>
        </p:nvPicPr>
        <p:blipFill>
          <a:blip r:embed="rId11"/>
          <a:stretch/>
        </p:blipFill>
        <p:spPr>
          <a:xfrm>
            <a:off x="304920" y="0"/>
            <a:ext cx="992160" cy="1066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9" descr="Common Armadillo"/>
          <p:cNvPicPr/>
          <p:nvPr/>
        </p:nvPicPr>
        <p:blipFill>
          <a:blip r:embed="rId12"/>
          <a:stretch/>
        </p:blipFill>
        <p:spPr>
          <a:xfrm>
            <a:off x="7086600" y="304920"/>
            <a:ext cx="152388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ction Button: Custom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6"/>
          <p:cNvSpPr txBox="1"/>
          <p:nvPr/>
        </p:nvSpPr>
        <p:spPr>
          <a:xfrm>
            <a:off x="762120" y="1981080"/>
            <a:ext cx="762948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5000"/>
                    </a:srgbClr>
                  </a:outerShdw>
                </a:effectLst>
                <a:latin typeface="Times New Roman"/>
              </a:rPr>
              <a:t>DAILY DOUBLE</a:t>
            </a:r>
            <a:endParaRPr b="0" lang="en-US" sz="96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4" name="Action Button: Custom 4"/>
          <p:cNvSpPr/>
          <p:nvPr/>
        </p:nvSpPr>
        <p:spPr>
          <a:xfrm>
            <a:off x="0" y="-15228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01:00:32Z</dcterms:created>
  <dc:creator>Philip Bigler</dc:creator>
  <dc:description/>
  <dc:language>en-US</dc:language>
  <cp:lastModifiedBy>Noel</cp:lastModifiedBy>
  <dcterms:modified xsi:type="dcterms:W3CDTF">2010-03-21T12:25:42Z</dcterms:modified>
  <cp:revision>29</cp:revision>
  <dc:subject/>
  <dc:title>Slide 1</dc:title>
</cp:coreProperties>
</file>